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C04A-5246-4C32-9F97-56E9E59DB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D467-D1A7-4CE1-B72D-C23945E46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9F62-54EB-46D3-86C2-567F13AA8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4E2E-136C-49EA-B166-DD154466B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6118-7282-417B-9994-EAD661BE7D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7E4D-B1ED-453A-92F8-4F9A7CE3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850-57F7-478C-AFD5-CA0646D6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618-3CF7-4F42-B07E-1D6D6C35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8B7-31CC-45C0-929F-FA70BFF3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F081-0020-4330-85F6-5EC1864D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A43D-12DA-4783-8C5D-7236C0C9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65EF-1AB1-4DFF-9C19-4C671F07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76C8-13DD-4709-A4E2-2542C52F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549E-8266-43BB-82DB-F63F5D87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4A1B-5D2C-4FA1-B6D5-0A5D1F3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C530-4A12-4006-A194-3F747248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07A-2A6B-4BC8-BFD5-32A0960E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5B19-4F24-4717-BE63-0310B613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7EC7-7231-46B2-B263-9AFBFC1C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28EA-F6BD-4760-B11B-FE86BC3B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4809-8EE3-4FF7-AA30-CF7404E0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E5FE-578B-424E-9EBA-588AF75E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CB525-BDF2-4D53-BCDD-EC3EC5AF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C86F6-60E9-4A72-BBB8-87499FB2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E7DCB-63CA-4A4F-A7F8-E01308FE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132E2-D2F4-4E08-B03F-C457659D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4A1F8-0A3A-44E1-B004-2A8499C3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941-E47F-4FD5-B5A3-7933F81D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429C1-19B5-468C-A590-D3822002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38E34-304D-43CF-B08A-30C38A4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4C876-EA04-4F2B-ACC1-CE457FBB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55050-2474-41E9-8E39-46394979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43929-8008-4C87-A035-A1913E8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19DCA-813F-4895-8F9D-0A0F9737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866BC-269D-40FB-9418-E176F5D5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F93FB-4A01-4F35-803C-CA5B9929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9E8B4-4332-48EF-A34B-F5CC2B7F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31D8B-BC86-41B1-B18A-40F2E4CD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4E6-10EF-48E6-87D3-D4CC0FAF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43AEB-E89E-41C8-83F4-2AC0DAB6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DA2A0-BB98-4D4A-A354-D06B7DB3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6EDBD-ABA3-4B56-A7E8-500CE762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ED91BF-2B91-472E-BC92-63C7385B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A6248-0B41-4B6E-A0AA-255A9438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84837-F83E-4ECE-B649-5727FC21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C9D464-8DAF-4A41-9812-51E86B28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BEA98-251B-44A2-A3F7-380F6234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76FF0-6077-40A5-B59D-59A3EDC8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98D04-0D37-4B31-877F-0E74945F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746-AB52-4278-A9DC-9365B3EB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0EEC0-42B5-4516-8F79-44262D9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807E9-A8DB-4EE6-83A2-EF4A314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AEDC9-3BCA-4E76-8A23-93E00FDE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33A7B-6EF9-4A58-9E6F-F34EE163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9D7C9-6AB4-4B57-BA37-508B8552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C5495-6FB0-4FE7-9313-1695FAB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D21C3-75DE-480F-9FCB-419E86E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E9E53-E80B-44A6-839E-CEBAFD02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215F9-2E73-4AEB-AE3B-5B3A8589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1FF4E-0236-491E-AFD4-080D660E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D56-95DC-4EDB-B583-132C893D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428EA-E25A-4952-A0B9-DF864C26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A377B-8A2E-44D6-893A-861E4348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37C74-303D-4E38-B1A2-C86BCC1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1204E-4E05-4D49-A652-31F6858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1D9CC-26C4-435B-AA06-6E69F93E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287AA-9AB3-40D8-BB39-01482623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4BECE-E943-46FD-AFF5-DFB4DBF4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55424-45D3-48A1-84AF-7AA527AD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0306A-CC5D-466E-A1DE-7ECEDCE6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C40A9-A84D-4EEF-A643-C6C2047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A70-1B40-49EA-B03A-3752655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EBD07-9D3D-44E3-8FF4-4AE16A8C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DE7C9-482F-45A9-891F-394AF892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A3830-E1C2-4450-8435-510A7F11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B346B-4388-47F1-9458-8A5726FC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9070F-B066-4070-BA26-1AD045E7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679BE-5D2A-4419-9AE2-7F3AAE60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CA4C1-9E13-4BCC-835A-768EB84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6E00E-AB94-49B8-B394-9D89E2E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5D097-AE0A-4FD3-86E6-CC10AF48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380D6-BDDE-4D3B-B87A-C256BE4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221-D07A-4833-9C7A-67B68A23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78886-4FD4-4850-8DCA-06EBC92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DDB72-ACA6-43DE-88DF-A883A0E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02E7C-07A1-44F1-9E52-A85D9A32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147E9-04A0-4D00-88D0-7D838A4E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24C96-92E5-4352-A1D8-E090B5AF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D6368-95C5-494E-B822-6B7514A8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9F18-B2B9-4FA5-B26D-52E09E91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0802D-052F-4109-9B37-B5D93FDE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6126-2EE1-4E74-8E47-70467A2A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FAC37-9BAC-4198-B65E-74FC3F49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83F-0E3B-4FFB-B450-00888211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BB275-75B8-4751-9AAC-A871C1B2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D0388-BFC8-4DA3-BBAB-A71E6F2B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224D4-A0D3-4D22-A56A-B4909E7F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A1D26-A4E8-4941-8EDE-6354706D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8EA50-97A2-4912-BE5A-86DD8932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DC4B-9ADB-4667-87C6-E7F4449B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E2F27-D1FA-4A9B-9D66-4D9F7F7C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239A-7303-44E6-9BA6-E91D16B12CA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102E-3015-4DD4-BC46-4B8C7B08721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29F4-3C44-424B-A253-1EF5ACD51D2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4E68-FAE3-489C-9245-BECD358E74A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D458-2378-4876-A77F-DF18EC46345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70D7-E8E9-47FE-8027-9BA9BCDF8CD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19FF-3CC9-4A77-95C4-41AADAF471C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69C-67D4-4E67-A94E-9B5D1BEE5CD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3880" y="18284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ddc3"/>
                </a:solidFill>
                <a:latin typeface="Tw Cen MT"/>
              </a:rPr>
              <a:t>MELISSA CYR</a:t>
            </a:r>
            <a:endParaRPr b="0" lang="en-US" sz="9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w Cen MT"/>
              </a:rPr>
              <a:t>In a Nutshell…</a:t>
            </a:r>
            <a:endParaRPr b="0" lang="en-US" sz="4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 just got married 3 months ago on March 5, 2011.  My husband and I have been together for 9 years. The wedding was perfec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600200" y="4647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JUST MARRIED!!!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1" name="Picture Placeholder 11" descr="Married3.JPG"/>
          <p:cNvPicPr/>
          <p:nvPr/>
        </p:nvPicPr>
        <p:blipFill>
          <a:blip r:embed="rId1"/>
          <a:srcRect l="0" t="4574" r="0" b="4574"/>
          <a:stretch/>
        </p:blipFill>
        <p:spPr>
          <a:xfrm>
            <a:off x="1560600" y="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ex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3" name="Content Placeholder 7" descr="Al.JPG"/>
          <p:cNvPicPr/>
          <p:nvPr/>
        </p:nvPicPr>
        <p:blipFill>
          <a:blip r:embed="rId1"/>
          <a:stretch/>
        </p:blipFill>
        <p:spPr>
          <a:xfrm>
            <a:off x="228600" y="1600200"/>
            <a:ext cx="3429000" cy="4419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Al2.JPG"/>
          <p:cNvPicPr/>
          <p:nvPr/>
        </p:nvPicPr>
        <p:blipFill>
          <a:blip r:embed="rId2"/>
          <a:stretch/>
        </p:blipFill>
        <p:spPr>
          <a:xfrm>
            <a:off x="3733920" y="1600200"/>
            <a:ext cx="5181480" cy="44197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228600" y="61722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on, Alex. He is 12 years old. He is just finishing his first year of Middle School and will be in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de next year. *GUL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UPPIES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4" descr="Biscuit.JPG"/>
          <p:cNvPicPr/>
          <p:nvPr/>
        </p:nvPicPr>
        <p:blipFill>
          <a:blip r:embed="rId1"/>
          <a:stretch/>
        </p:blipFill>
        <p:spPr>
          <a:xfrm>
            <a:off x="609480" y="2101680"/>
            <a:ext cx="4267440" cy="3994200"/>
          </a:xfrm>
          <a:prstGeom prst="rect">
            <a:avLst/>
          </a:prstGeom>
          <a:ln w="0">
            <a:noFill/>
          </a:ln>
        </p:spPr>
      </p:pic>
      <p:pic>
        <p:nvPicPr>
          <p:cNvPr id="368" name="Content Placeholder 5" descr="Bruno.JPG"/>
          <p:cNvPicPr/>
          <p:nvPr/>
        </p:nvPicPr>
        <p:blipFill>
          <a:blip r:embed="rId2"/>
          <a:stretch/>
        </p:blipFill>
        <p:spPr>
          <a:xfrm>
            <a:off x="4844880" y="2209680"/>
            <a:ext cx="4299120" cy="31244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609480" y="6248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Biscuit, my 4 month old female puppy and Bruno, my three year old.  Both are Boston Terriers.  I love these pu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bbi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1" name="Content Placeholder 4" descr="Sunset.jpg"/>
          <p:cNvPicPr/>
          <p:nvPr/>
        </p:nvPicPr>
        <p:blipFill>
          <a:blip r:embed="rId1"/>
          <a:stretch/>
        </p:blipFill>
        <p:spPr>
          <a:xfrm>
            <a:off x="304920" y="1828800"/>
            <a:ext cx="3168360" cy="21337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800240" y="167652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arden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cuba Div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ad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ok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3" name="Picture 5" descr="Squba.JPG"/>
          <p:cNvPicPr/>
          <p:nvPr/>
        </p:nvPicPr>
        <p:blipFill>
          <a:blip r:embed="rId2"/>
          <a:stretch/>
        </p:blipFill>
        <p:spPr>
          <a:xfrm>
            <a:off x="304920" y="4191120"/>
            <a:ext cx="3200400" cy="2298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Documents and Settings\ccstudent\Local Settings\Temporary Internet Files\Content.IE5\FNBMRHET\MC900437990[1].wmf"/>
          <p:cNvPicPr/>
          <p:nvPr/>
        </p:nvPicPr>
        <p:blipFill>
          <a:blip r:embed="rId3"/>
          <a:stretch/>
        </p:blipFill>
        <p:spPr>
          <a:xfrm>
            <a:off x="3505320" y="419112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C:\Documents and Settings\ccstudent\Local Settings\Temporary Internet Files\Content.IE5\ERQK5WVO\MC900279884[1].wmf"/>
          <p:cNvPicPr/>
          <p:nvPr/>
        </p:nvPicPr>
        <p:blipFill>
          <a:blip r:embed="rId4"/>
          <a:stretch/>
        </p:blipFill>
        <p:spPr>
          <a:xfrm>
            <a:off x="6705720" y="4267080"/>
            <a:ext cx="2438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hildr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Famil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afet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ompass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Content Placeholder 5" descr="sub-head-start.gif"/>
          <p:cNvPicPr/>
          <p:nvPr/>
        </p:nvPicPr>
        <p:blipFill>
          <a:blip r:embed="rId1"/>
          <a:stretch/>
        </p:blipFill>
        <p:spPr>
          <a:xfrm>
            <a:off x="3048120" y="3733920"/>
            <a:ext cx="4495680" cy="23619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7"/>
          <p:cNvSpPr/>
          <p:nvPr/>
        </p:nvSpPr>
        <p:spPr>
          <a:xfrm>
            <a:off x="2666880" y="21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arent/Child Advocate in Haverhill, 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609480" y="62485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rk full-time as a Parent/Child Advocate for Early Head Start with children 0-3 and their famil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HOO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Content Placeholder 6" descr="Cambridge-College-Cambridge-9F1618CC.jpg"/>
          <p:cNvPicPr/>
          <p:nvPr/>
        </p:nvPicPr>
        <p:blipFill>
          <a:blip r:embed="rId1"/>
          <a:stretch/>
        </p:blipFill>
        <p:spPr>
          <a:xfrm>
            <a:off x="609480" y="2057400"/>
            <a:ext cx="3886200" cy="4267080"/>
          </a:xfrm>
          <a:prstGeom prst="rect">
            <a:avLst/>
          </a:prstGeom>
          <a:ln w="0">
            <a:noFill/>
          </a:ln>
        </p:spPr>
      </p:pic>
      <p:pic>
        <p:nvPicPr>
          <p:cNvPr id="383" name="Content Placeholder 7" descr="about-cambridgecollege.jpg"/>
          <p:cNvPicPr/>
          <p:nvPr/>
        </p:nvPicPr>
        <p:blipFill>
          <a:blip r:embed="rId2"/>
          <a:stretch/>
        </p:blipFill>
        <p:spPr>
          <a:xfrm>
            <a:off x="4800600" y="3044880"/>
            <a:ext cx="3886200" cy="23684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CAMBRIDGE COLLE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One Year Left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1T17:36:41Z</dcterms:created>
  <dc:creator>ccstudent</dc:creator>
  <dc:description/>
  <dc:language>en-US</dc:language>
  <cp:lastModifiedBy>ccstudent</cp:lastModifiedBy>
  <dcterms:modified xsi:type="dcterms:W3CDTF">2011-06-12T13:16:42Z</dcterms:modified>
  <cp:revision>22</cp:revision>
  <dc:subject/>
  <dc:title>Slide 1</dc:title>
</cp:coreProperties>
</file>